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63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87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言語的教室活動案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4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　　　　　　　　　　　　　　　　資料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L4-5 Words Col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3160" y="0"/>
            <a:ext cx="2887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1040" y="744120"/>
            <a:ext cx="49608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27680"/>
            <a:ext cx="28875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3160" y="9427680"/>
            <a:ext cx="28875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EB015-CEFF-4537-B7A8-B0711230A94F}" type="slidenum"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0" y="0"/>
            <a:ext cx="28875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言語的教室活動案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4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　　　　　　　　　　　　　　　　資料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L4-5 Words Col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0800" cy="37227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  <a:ea typeface="MS PGothic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0" y="0"/>
            <a:ext cx="28875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言語的教室活動案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4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　　　　　　　　　　　　　　　　資料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L4-5 Words Col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0800" cy="37227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MS PGothic"/>
              </a:rPr>
              <a:t>最初のゲームは色３つ、次のゲームは、４つ、と語彙を増やしてもいいでしょ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0" y="0"/>
            <a:ext cx="28875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言語的教室活動案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4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　　　　　　　　　　　　　　　　資料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L4-5 Words Col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0800" cy="37227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S PGothic"/>
              </a:rPr>
              <a:t>All pictures are from Minnao Kyozai 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0" y="0"/>
            <a:ext cx="28875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言語的教室活動案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4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　　　　　　　　　　　　　　　　資料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MS PGothic"/>
              </a:rPr>
              <a:t>L4-5 Words Col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0800" cy="37227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MS PGothic"/>
              </a:rPr>
              <a:t>答え：黄色　ゲームの名前？？後で下線、消す。賞品用意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E447-0DA6-4099-8AE2-D77FA87EF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E72B-8C54-4DBD-A010-AD54B31B0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4E52-E83E-4998-8556-09216C808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BED5-FCFA-4247-8807-BAE65C677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D7BF-9284-43E9-8545-8AD8B71C4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481B-1E97-44EC-BE61-202B252F9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FD28-C350-4516-AE7D-0291F3158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BDC6-82C6-461C-B535-A733FCED5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1DF2-4B6D-40C6-B4A9-6F2F829A0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8B86-F134-4242-A404-DE2EDC4F0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0E81-1D03-46BD-BF4C-50C0F229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79F7-2475-4A01-AA8E-3E8628FC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  <a:ea typeface="MS P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MS PGoth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9040F-9C21-4E22-B12E-0901B35173CD}" type="slidenum">
              <a:rPr b="0" lang="ja-JP" sz="14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828800" y="144792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1731960" y="1351080"/>
            <a:ext cx="6019920" cy="41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333399"/>
                </a:solidFill>
                <a:latin typeface="Cooper Black"/>
                <a:ea typeface="MS PGothic"/>
              </a:rPr>
              <a:t>I R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333399"/>
                </a:solidFill>
                <a:latin typeface="Cooper Black"/>
                <a:ea typeface="MS PGothic"/>
              </a:rPr>
              <a:t>Colou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3708360" y="2492280"/>
            <a:ext cx="180648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Game 3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  <a:ea typeface="MS PGothic"/>
              </a:rPr>
              <a:t>　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trange Man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  <a:ea typeface="MS PGothic"/>
              </a:rPr>
              <a:t>！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MS PGothic"/>
              </a:rPr>
              <a:t>インターネットを使ったゲーム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MS PGothic"/>
              </a:rPr>
              <a:t>http://kids.goo.ne.jp/game/index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MS PGothic"/>
              </a:rPr>
              <a:t>　「キッ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oo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MS PGothic"/>
              </a:rPr>
              <a:t>」　　ゲー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MS PGothic"/>
              </a:rPr>
              <a:t>　ひらめきゲーム　→　５～８　→　記憶術（色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Game 4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  <a:ea typeface="MS PGothic"/>
              </a:rPr>
              <a:t>　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wister!!”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  <a:ea typeface="MS PGothic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396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MS PGothic"/>
              </a:rPr>
              <a:t>２人ペアになってもらいま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MS PGothic"/>
              </a:rPr>
              <a:t>マスを書いたシートを配りま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MS PGothic"/>
              </a:rPr>
              <a:t>好きな色を円の中にぬってもらいま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 u="sng">
                <a:solidFill>
                  <a:srgbClr val="000000"/>
                </a:solidFill>
                <a:uFillTx/>
                <a:latin typeface="Arial"/>
                <a:ea typeface="MS PGothic"/>
              </a:rPr>
              <a:t>人差し指と中指だけ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MS PGothic"/>
              </a:rPr>
              <a:t>を使って教師が言った色を順番に指で押さえま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MS PGothic"/>
              </a:rPr>
              <a:t>押さえ切れなかったら負け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4500720" y="1557360"/>
            <a:ext cx="4259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ake a pa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The teacher will give you the table she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Colour in the circ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Decide who starts first. Using  two finger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MS PGothic"/>
              </a:rPr>
              <a:t> (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  <a:ea typeface="MS PGothic"/>
              </a:rPr>
              <a:t>index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inger and middle finger, only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MS PGothic"/>
              </a:rPr>
              <a:t>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, touch the colours the teacher sa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If you can’t touch the colour when the teacher says it, your partner will win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Arial"/>
              <a:ea typeface="MS PGothic"/>
            </a:endParaRPr>
          </a:p>
        </p:txBody>
      </p:sp>
      <p:sp>
        <p:nvSpPr>
          <p:cNvPr id="52" name="Oval 45"/>
          <p:cNvSpPr/>
          <p:nvPr/>
        </p:nvSpPr>
        <p:spPr>
          <a:xfrm>
            <a:off x="2124000" y="1268280"/>
            <a:ext cx="2376720" cy="1300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46"/>
          <p:cNvSpPr/>
          <p:nvPr/>
        </p:nvSpPr>
        <p:spPr>
          <a:xfrm>
            <a:off x="755640" y="3213000"/>
            <a:ext cx="2376360" cy="13683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48"/>
          <p:cNvSpPr/>
          <p:nvPr/>
        </p:nvSpPr>
        <p:spPr>
          <a:xfrm>
            <a:off x="5796000" y="3860640"/>
            <a:ext cx="2344680" cy="1368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53"/>
          <p:cNvSpPr/>
          <p:nvPr/>
        </p:nvSpPr>
        <p:spPr>
          <a:xfrm>
            <a:off x="2916360" y="5013360"/>
            <a:ext cx="2633400" cy="136836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51"/>
          <p:cNvSpPr/>
          <p:nvPr/>
        </p:nvSpPr>
        <p:spPr>
          <a:xfrm>
            <a:off x="5435640" y="1484280"/>
            <a:ext cx="2449440" cy="13683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9" descr=""/>
          <p:cNvPicPr/>
          <p:nvPr/>
        </p:nvPicPr>
        <p:blipFill>
          <a:blip r:embed="rId1"/>
          <a:stretch/>
        </p:blipFill>
        <p:spPr>
          <a:xfrm>
            <a:off x="3924360" y="2781360"/>
            <a:ext cx="127620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MS PGothic"/>
              </a:rPr>
              <a:t>Re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    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  <a:ea typeface="MS PGothic"/>
              </a:rPr>
              <a:t>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42160" cy="4924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000000"/>
              </a:solidFill>
              <a:latin typeface="Arial"/>
              <a:ea typeface="MS PGothic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5580000" y="189000"/>
            <a:ext cx="20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4400" spc="-1" strike="noStrike">
                <a:solidFill>
                  <a:srgbClr val="000000"/>
                </a:solidFill>
                <a:latin typeface="Arial"/>
                <a:ea typeface="MS PGothic"/>
              </a:rPr>
              <a:t>Ａ　Ｋ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4" descr=""/>
          <p:cNvPicPr/>
          <p:nvPr/>
        </p:nvPicPr>
        <p:blipFill>
          <a:blip r:embed="rId1"/>
          <a:stretch/>
        </p:blipFill>
        <p:spPr>
          <a:xfrm>
            <a:off x="971640" y="2492280"/>
            <a:ext cx="7412040" cy="3438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" descr=""/>
          <p:cNvPicPr/>
          <p:nvPr/>
        </p:nvPicPr>
        <p:blipFill>
          <a:blip r:embed="rId2"/>
          <a:stretch/>
        </p:blipFill>
        <p:spPr>
          <a:xfrm>
            <a:off x="5759280" y="833400"/>
            <a:ext cx="1657440" cy="7207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40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  <a:ea typeface="MS PGothic"/>
              </a:rPr>
              <a:t>Bl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569080" cy="49244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000000"/>
              </a:solidFill>
              <a:latin typeface="Arial"/>
              <a:ea typeface="MS PGothic"/>
            </a:endParaRPr>
          </a:p>
        </p:txBody>
      </p:sp>
      <p:sp>
        <p:nvSpPr>
          <p:cNvPr id="65" name="Rectangle 12"/>
          <p:cNvSpPr/>
          <p:nvPr/>
        </p:nvSpPr>
        <p:spPr>
          <a:xfrm>
            <a:off x="5892840" y="154080"/>
            <a:ext cx="1440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A 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3" descr=""/>
          <p:cNvPicPr/>
          <p:nvPr/>
        </p:nvPicPr>
        <p:blipFill>
          <a:blip r:embed="rId1"/>
          <a:stretch/>
        </p:blipFill>
        <p:spPr>
          <a:xfrm>
            <a:off x="971640" y="1989000"/>
            <a:ext cx="2695320" cy="1516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" descr=""/>
          <p:cNvPicPr/>
          <p:nvPr/>
        </p:nvPicPr>
        <p:blipFill>
          <a:blip r:embed="rId2"/>
          <a:stretch/>
        </p:blipFill>
        <p:spPr>
          <a:xfrm>
            <a:off x="4788000" y="1989000"/>
            <a:ext cx="2414520" cy="1909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ium00457"/>
          <p:cNvPicPr/>
          <p:nvPr/>
        </p:nvPicPr>
        <p:blipFill>
          <a:blip r:embed="rId3"/>
          <a:stretch/>
        </p:blipFill>
        <p:spPr>
          <a:xfrm>
            <a:off x="1476360" y="4221000"/>
            <a:ext cx="2374920" cy="1722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8" descr="ium00460"/>
          <p:cNvPicPr/>
          <p:nvPr/>
        </p:nvPicPr>
        <p:blipFill>
          <a:blip r:embed="rId4"/>
          <a:stretch/>
        </p:blipFill>
        <p:spPr>
          <a:xfrm>
            <a:off x="4932360" y="4149720"/>
            <a:ext cx="2400480" cy="17398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9" descr=""/>
          <p:cNvPicPr/>
          <p:nvPr/>
        </p:nvPicPr>
        <p:blipFill>
          <a:blip r:embed="rId5"/>
          <a:stretch/>
        </p:blipFill>
        <p:spPr>
          <a:xfrm>
            <a:off x="6075360" y="781200"/>
            <a:ext cx="1147680" cy="5601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33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  <a:ea typeface="MS PGothic"/>
              </a:rPr>
              <a:t>Pink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  <a:ea typeface="MS PGothic"/>
              </a:rPr>
              <a:t>　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solidFill>
            <a:srgbClr val="fda1f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000000"/>
              </a:solidFill>
              <a:latin typeface="Arial"/>
              <a:ea typeface="MS PGothic"/>
            </a:endParaRPr>
          </a:p>
        </p:txBody>
      </p:sp>
      <p:sp>
        <p:nvSpPr>
          <p:cNvPr id="73" name="Rectangle 14"/>
          <p:cNvSpPr/>
          <p:nvPr/>
        </p:nvSpPr>
        <p:spPr>
          <a:xfrm>
            <a:off x="4859280" y="189000"/>
            <a:ext cx="280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PI N K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7" descr=""/>
          <p:cNvPicPr/>
          <p:nvPr/>
        </p:nvPicPr>
        <p:blipFill>
          <a:blip r:embed="rId1"/>
          <a:stretch/>
        </p:blipFill>
        <p:spPr>
          <a:xfrm>
            <a:off x="2916360" y="2131920"/>
            <a:ext cx="1854000" cy="16574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8" descr=""/>
          <p:cNvPicPr/>
          <p:nvPr/>
        </p:nvPicPr>
        <p:blipFill>
          <a:blip r:embed="rId2"/>
          <a:stretch/>
        </p:blipFill>
        <p:spPr>
          <a:xfrm>
            <a:off x="6443640" y="2131920"/>
            <a:ext cx="2093760" cy="20732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9" descr=""/>
          <p:cNvPicPr/>
          <p:nvPr/>
        </p:nvPicPr>
        <p:blipFill>
          <a:blip r:embed="rId3"/>
          <a:stretch/>
        </p:blipFill>
        <p:spPr>
          <a:xfrm>
            <a:off x="826920" y="3716280"/>
            <a:ext cx="1944720" cy="22528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0" descr=""/>
          <p:cNvPicPr/>
          <p:nvPr/>
        </p:nvPicPr>
        <p:blipFill>
          <a:blip r:embed="rId4"/>
          <a:stretch/>
        </p:blipFill>
        <p:spPr>
          <a:xfrm>
            <a:off x="4932360" y="3789360"/>
            <a:ext cx="1195560" cy="2077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1" descr=""/>
          <p:cNvPicPr/>
          <p:nvPr/>
        </p:nvPicPr>
        <p:blipFill>
          <a:blip r:embed="rId5"/>
          <a:stretch/>
        </p:blipFill>
        <p:spPr>
          <a:xfrm>
            <a:off x="5329080" y="981000"/>
            <a:ext cx="1872000" cy="576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76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  <a:ea typeface="MS PGothic"/>
              </a:rPr>
              <a:t>Yel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713800" cy="492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000000"/>
              </a:solidFill>
              <a:latin typeface="Arial"/>
              <a:ea typeface="MS PGothic"/>
            </a:endParaRPr>
          </a:p>
        </p:txBody>
      </p:sp>
      <p:sp>
        <p:nvSpPr>
          <p:cNvPr id="81" name="Rectangle 10"/>
          <p:cNvSpPr/>
          <p:nvPr/>
        </p:nvSpPr>
        <p:spPr>
          <a:xfrm>
            <a:off x="4754520" y="36360"/>
            <a:ext cx="311616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0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KI</a:t>
            </a:r>
            <a:r>
              <a:rPr b="1" i="1" lang="ja-JP" sz="4400" spc="-1" strike="noStrike">
                <a:solidFill>
                  <a:srgbClr val="000000"/>
                </a:solidFill>
                <a:latin typeface="Arial"/>
                <a:ea typeface="MS PGothic"/>
              </a:rPr>
              <a:t>　 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 </a:t>
            </a:r>
            <a:r>
              <a:rPr b="1" i="1" lang="ja-JP" sz="4400" spc="-1" strike="noStrike">
                <a:solidFill>
                  <a:srgbClr val="000000"/>
                </a:solidFill>
                <a:latin typeface="Arial"/>
                <a:ea typeface="MS PGothic"/>
              </a:rPr>
              <a:t>　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1" descr=""/>
          <p:cNvPicPr/>
          <p:nvPr/>
        </p:nvPicPr>
        <p:blipFill>
          <a:blip r:embed="rId1"/>
          <a:stretch/>
        </p:blipFill>
        <p:spPr>
          <a:xfrm>
            <a:off x="7093080" y="4797360"/>
            <a:ext cx="1622160" cy="1552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2" descr=""/>
          <p:cNvPicPr/>
          <p:nvPr/>
        </p:nvPicPr>
        <p:blipFill>
          <a:blip r:embed="rId2"/>
          <a:stretch/>
        </p:blipFill>
        <p:spPr>
          <a:xfrm>
            <a:off x="684360" y="2060640"/>
            <a:ext cx="2303280" cy="2052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3" descr=""/>
          <p:cNvPicPr/>
          <p:nvPr/>
        </p:nvPicPr>
        <p:blipFill>
          <a:blip r:embed="rId3"/>
          <a:stretch/>
        </p:blipFill>
        <p:spPr>
          <a:xfrm>
            <a:off x="5003640" y="2276640"/>
            <a:ext cx="1946520" cy="21207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4" descr=""/>
          <p:cNvPicPr/>
          <p:nvPr/>
        </p:nvPicPr>
        <p:blipFill>
          <a:blip r:embed="rId4"/>
          <a:stretch/>
        </p:blipFill>
        <p:spPr>
          <a:xfrm>
            <a:off x="2484360" y="4579920"/>
            <a:ext cx="2158920" cy="1755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5" descr=""/>
          <p:cNvPicPr/>
          <p:nvPr/>
        </p:nvPicPr>
        <p:blipFill>
          <a:blip r:embed="rId5"/>
          <a:stretch/>
        </p:blipFill>
        <p:spPr>
          <a:xfrm>
            <a:off x="5340240" y="692280"/>
            <a:ext cx="1946520" cy="664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47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  <a:ea typeface="MS PGothic"/>
              </a:rPr>
              <a:t>Gree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000000"/>
              </a:solidFill>
              <a:latin typeface="Arial"/>
              <a:ea typeface="MS PGothic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4716360" y="115920"/>
            <a:ext cx="2855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MI DO R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2" descr="ium00286"/>
          <p:cNvPicPr/>
          <p:nvPr/>
        </p:nvPicPr>
        <p:blipFill>
          <a:blip r:embed="rId1"/>
          <a:stretch/>
        </p:blipFill>
        <p:spPr>
          <a:xfrm>
            <a:off x="6084720" y="2781360"/>
            <a:ext cx="2256120" cy="1631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" descr=""/>
          <p:cNvPicPr/>
          <p:nvPr/>
        </p:nvPicPr>
        <p:blipFill>
          <a:blip r:embed="rId2"/>
          <a:stretch/>
        </p:blipFill>
        <p:spPr>
          <a:xfrm>
            <a:off x="4427640" y="2133720"/>
            <a:ext cx="1003320" cy="3203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5" descr="ium00384"/>
          <p:cNvPicPr/>
          <p:nvPr/>
        </p:nvPicPr>
        <p:blipFill>
          <a:blip r:embed="rId3"/>
          <a:stretch/>
        </p:blipFill>
        <p:spPr>
          <a:xfrm>
            <a:off x="1042920" y="3933720"/>
            <a:ext cx="2305080" cy="1667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7" descr="ium00372"/>
          <p:cNvPicPr/>
          <p:nvPr/>
        </p:nvPicPr>
        <p:blipFill>
          <a:blip r:embed="rId4"/>
          <a:stretch/>
        </p:blipFill>
        <p:spPr>
          <a:xfrm>
            <a:off x="1042920" y="1916280"/>
            <a:ext cx="2232000" cy="1618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8" descr=""/>
          <p:cNvPicPr/>
          <p:nvPr/>
        </p:nvPicPr>
        <p:blipFill>
          <a:blip r:embed="rId5"/>
          <a:stretch/>
        </p:blipFill>
        <p:spPr>
          <a:xfrm>
            <a:off x="5241960" y="765000"/>
            <a:ext cx="1805040" cy="6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Game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  <a:ea typeface="MS PGothic"/>
              </a:rPr>
              <a:t>　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1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  <a:ea typeface="MS PGothic"/>
              </a:rPr>
              <a:t>　 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Beat the teacher!!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Repeat after the teacher. But if the teacher says the wrong word, you have to be sil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45"/>
          <p:cNvSpPr/>
          <p:nvPr/>
        </p:nvSpPr>
        <p:spPr>
          <a:xfrm>
            <a:off x="1908000" y="3357720"/>
            <a:ext cx="1878120" cy="939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46"/>
          <p:cNvSpPr/>
          <p:nvPr/>
        </p:nvSpPr>
        <p:spPr>
          <a:xfrm>
            <a:off x="611280" y="4653000"/>
            <a:ext cx="1912680" cy="10080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53"/>
          <p:cNvSpPr/>
          <p:nvPr/>
        </p:nvSpPr>
        <p:spPr>
          <a:xfrm>
            <a:off x="3564000" y="4653000"/>
            <a:ext cx="2057400" cy="86364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48"/>
          <p:cNvSpPr/>
          <p:nvPr/>
        </p:nvSpPr>
        <p:spPr>
          <a:xfrm>
            <a:off x="6659640" y="4724280"/>
            <a:ext cx="1913040" cy="863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51"/>
          <p:cNvSpPr/>
          <p:nvPr/>
        </p:nvSpPr>
        <p:spPr>
          <a:xfrm>
            <a:off x="5148360" y="3284640"/>
            <a:ext cx="1912680" cy="86364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me 2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MS PGothic"/>
              </a:rPr>
              <a:t>　“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lour Race!!”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re is one word in which the name and colour does not much. Can you say it in Japane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8424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  <a:ea typeface="MS PGothic"/>
              </a:rPr>
              <a:t>red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1" lang="en-GB" sz="3200" spc="-1" strike="noStrike">
                <a:solidFill>
                  <a:srgbClr val="008000"/>
                </a:solidFill>
                <a:latin typeface="Arial"/>
                <a:ea typeface="MS PGothic"/>
              </a:rPr>
              <a:t>green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MS PGothic"/>
              </a:rPr>
              <a:t>yellow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MS PGothic"/>
              </a:rPr>
              <a:t>  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  <a:ea typeface="MS PGothic"/>
              </a:rPr>
              <a:t>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  <a:ea typeface="MS PGothic"/>
              </a:rPr>
              <a:t>blue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MS PGothic"/>
              </a:rPr>
              <a:t>     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  <a:ea typeface="MS PGothic"/>
              </a:rPr>
              <a:t>red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1" lang="en-GB" sz="3200" spc="-1" strike="noStrike">
                <a:solidFill>
                  <a:srgbClr val="ff33cc"/>
                </a:solidFill>
                <a:latin typeface="Arial"/>
                <a:ea typeface="MS PGothic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1" lang="en-GB" sz="3200" spc="-1" strike="noStrike">
                <a:solidFill>
                  <a:srgbClr val="ff33cc"/>
                </a:solidFill>
                <a:latin typeface="Arial"/>
                <a:ea typeface="MS PGothic"/>
              </a:rPr>
              <a:t>pink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MS PGothic"/>
              </a:rPr>
              <a:t>yellow   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1" lang="en-GB" sz="3200" spc="-1" strike="noStrike">
                <a:solidFill>
                  <a:srgbClr val="ff33cc"/>
                </a:solidFill>
                <a:latin typeface="Arial"/>
                <a:ea typeface="MS PGothic"/>
              </a:rPr>
              <a:t>pink         </a:t>
            </a:r>
            <a:r>
              <a:rPr b="1" lang="en-GB" sz="3200" spc="-1" strike="noStrike">
                <a:solidFill>
                  <a:srgbClr val="333399"/>
                </a:solidFill>
                <a:latin typeface="Arial"/>
                <a:ea typeface="MS PGothic"/>
              </a:rPr>
              <a:t>blue</a:t>
            </a:r>
            <a:r>
              <a:rPr b="1" lang="en-GB" sz="3200" spc="-1" strike="noStrike">
                <a:solidFill>
                  <a:srgbClr val="333399"/>
                </a:solidFill>
                <a:latin typeface="Arial"/>
                <a:ea typeface="MS P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MS PGothic"/>
              </a:rPr>
              <a:t>yellow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1" lang="en-GB" sz="3200" spc="-1" strike="noStrike">
                <a:solidFill>
                  <a:srgbClr val="333399"/>
                </a:solidFill>
                <a:latin typeface="Arial"/>
                <a:ea typeface="MS PGothic"/>
              </a:rPr>
              <a:t>blue</a:t>
            </a:r>
            <a:r>
              <a:rPr b="1" i="1" lang="en-GB" sz="3200" spc="-1" strike="noStrike">
                <a:solidFill>
                  <a:srgbClr val="333399"/>
                </a:solidFill>
                <a:latin typeface="Arial"/>
                <a:ea typeface="MS P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MS PGothic"/>
              </a:rPr>
              <a:t>yellow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  <a:ea typeface="MS PGothic"/>
              </a:rPr>
              <a:t>red     </a:t>
            </a:r>
            <a:r>
              <a:rPr b="1" lang="en-GB" sz="3200" spc="-1" strike="noStrike">
                <a:solidFill>
                  <a:srgbClr val="660066"/>
                </a:solidFill>
                <a:latin typeface="Arial"/>
                <a:ea typeface="MS PGothic"/>
              </a:rPr>
              <a:t>ye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cc"/>
                </a:solidFill>
                <a:latin typeface="Arial"/>
                <a:ea typeface="MS PGothic"/>
              </a:rPr>
              <a:t>pink    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  <a:ea typeface="MS PGothic"/>
              </a:rPr>
              <a:t>red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MS PGothic"/>
              </a:rPr>
              <a:t>   </a:t>
            </a:r>
            <a:r>
              <a:rPr b="1" lang="en-GB" sz="3200" spc="-1" strike="noStrike">
                <a:solidFill>
                  <a:srgbClr val="333399"/>
                </a:solidFill>
                <a:latin typeface="Arial"/>
                <a:ea typeface="MS PGothic"/>
              </a:rPr>
              <a:t>blue       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  <a:ea typeface="MS PGothic"/>
              </a:rPr>
              <a:t>yellow   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  <a:ea typeface="MS PGothic"/>
              </a:rPr>
              <a:t>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  <a:ea typeface="MS PGothic"/>
              </a:rPr>
              <a:t>green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MS PGothic"/>
              </a:rPr>
              <a:t>     red     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MS PGothic"/>
              </a:rPr>
              <a:t>blue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MS PGothic"/>
              </a:rPr>
              <a:t>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MS PGothic"/>
              </a:rPr>
              <a:t>yellow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MS PGothic"/>
              </a:rPr>
              <a:t>       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  <a:ea typeface="MS PGothic"/>
              </a:rPr>
              <a:t>g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0T10:32:21Z</dcterms:created>
  <dc:creator>ST-GRANT-J</dc:creator>
  <dc:description/>
  <dc:language>en-US</dc:language>
  <cp:lastModifiedBy>Hiroko Tanaka</cp:lastModifiedBy>
  <cp:lastPrinted>2013-10-02T10:30:01Z</cp:lastPrinted>
  <dcterms:modified xsi:type="dcterms:W3CDTF">2013-10-02T10:30:03Z</dcterms:modified>
  <cp:revision>47</cp:revision>
  <dc:subject/>
  <dc:title>PowerPoint Presentation</dc:title>
</cp:coreProperties>
</file>